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C555-CEC7-498B-B3A0-5300DC151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F953-E365-432D-91CF-48A56AC21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F770-6998-4F61-84A4-F2E02429C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C759-3BD1-4536-A5DD-DD4ED6FA1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2B280-53B4-421B-8241-2F681A8BD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B08D0-409F-41A4-8521-0F16C3800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94DB0-85E9-4C22-AE2B-19BE842CA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6CD49-6DDF-4B40-9E64-68C7BCD61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D2BD7-959C-4A96-A2CC-C35B2426E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06C86-03B0-4EB5-813E-AB9439B69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4C5A7-6A90-4805-A3BC-5914FB8C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2220-9EFC-4F22-8533-D749B18DF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20241-1ECE-4C53-9047-A7A79807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D029C-1FE4-45CC-9EAF-973BC83A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88A87-C339-4058-9164-F0194FD20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B467F-338E-4991-9B1D-2BA2B2479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5B392-D3C9-4A22-AE30-A13ED41FF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56EB-C782-41E4-B535-8B948FAA7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B12D-4C5D-4AE0-A67C-1E6AF88E1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0C77-5480-4552-9205-09C15597D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B8F1-CCE9-48EB-B867-1A3AC9B92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99A7-31E0-4D9F-9872-A67D318E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BF81-0B09-49B7-B91B-5B7071A0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A245-DBA7-44DF-8EBE-BAF62783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6D314-3D93-4D61-8343-EF26FC8197D7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3644A-19FE-4B57-BD55-DDC7460CCEC1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11280" y="900000"/>
            <a:ext cx="7993080" cy="769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9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600" spc="-1" strike="noStrike">
                <a:solidFill>
                  <a:srgbClr val="ffffff"/>
                </a:solidFill>
                <a:latin typeface="Tahoma"/>
                <a:cs typeface="????Boutros Rokaa"/>
              </a:rPr>
              <a:t>نشيد القيامة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  <a:cs typeface="????Boutros Rokaa"/>
              </a:rPr>
              <a:t>بعد أيام ثلاثة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1203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َعْدَ أَيَّامٍ ثلاثة صَارَ تَارِيخٌ جَدِيد. كَانَ مَوْتٌ، كَانَ بُغْضٌ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َمْ يَكُنْ يَسُوعُ قَام ثمَّ قَام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َأَتَى بالحُبِّ يَهْدِينَا، هَللويا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1374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ُؤْمِنُ باللهِ فِي ثالُوثِه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رَبُّنَا الْفَادِي وَآبٌ يَرْتَضِينَ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رُوحُهُ القُدُّوسُ يَحْمِينَا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ِنَّهُ الحَقُّ وَآمَالُ الْقِيَامَة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135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رَبُّنَا قَدْ مَاتَ فِي ظِلِّ الْقِيَامَة،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َمْ يَمُتْ، قَامَ عِنْدَ الْفَجْرِ،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َيْنَ الْجُنْدِ، رُغْمَ الْمَوْتِ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ِنْدَ الفَجْرِ قَامَ. بَيْنَ الْجُنْدِ قَامِ،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رُغْمَ الْمَوْتِ قَامَ، هللويا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1374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ُؤْمِنُ باللهِ فِي ثالُوثِه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رَبُّنَا الْفَادِي وَآبٌ يَرْتَضِينَ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رُوحُهُ القُدُّوسُ يَحْمِينَا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ِنَّهُ الحَقُّ وَآمَالُ الْقِيَامَة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1203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سَارَعَتْ فِي الْفَجْرِ نَحْوَ الْقَبْرِ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كُلُّ الْمَرْيَمَاتْ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ea typeface="Akhbar MT"/>
              </a:rPr>
              <a:t>"أَيْنَ يَسُوعُ "؟ سَأَلْنَ: "أَيْنَ هُو"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َالُوا لَهُنَّ: "قَامَ، حَقّاً قَام"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1365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ِنْدَ الفَجْرِ قَامَ.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َيْنَ الْجُنْدِ قَامِ، 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رُغْمَ الْمَوْتِ قَامَ، هللويا.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9144000" cy="1374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ُؤْمِنُ باللهِ فِي ثالُوثِه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رَبُّنَا الْفَادِي وَآبٌ يَرْتَضِينَ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رُوحُهُ القُدُّوسُ يَحْمِينَا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ِنَّهُ الحَقُّ وَآمَالُ الْقِيَامَة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7T12:38:19Z</dcterms:created>
  <dc:creator>Charbel Azar</dc:creator>
  <dc:description/>
  <dc:language>en-US</dc:language>
  <cp:lastModifiedBy>-</cp:lastModifiedBy>
  <dcterms:modified xsi:type="dcterms:W3CDTF">2003-04-27T09:26:49Z</dcterms:modified>
  <cp:revision>9</cp:revision>
  <dc:subject/>
  <dc:title>Slide 1</dc:title>
</cp:coreProperties>
</file>